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C64-CAFB-43CC-9B03-0E435A42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82D-74B2-45B4-97AC-D7590FA2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C85-0409-426C-A2A1-8CE5C611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EF6-F1E4-435B-90D8-403273AF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29D-6964-450C-BEC8-276D1D7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53F-919E-4152-852F-3A501B80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757-A060-4F56-AEB2-3C02298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0F8-50AB-4123-B484-761C2AF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040-DCA8-4EEE-B157-060EF487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84A-5894-463D-AA0B-92EDEAA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149-387D-4FA8-ACD3-22B03EB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C82-BF19-4B80-A887-712FF37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81BA-D97A-47DE-87A0-711A7B1D55F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5840" y="455616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blar de sucesos que queremos relacionar con el momento pres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mañ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sem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os día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s vacacio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01268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9080" y="425916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s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515960"/>
            <a:ext cx="5286240" cy="2638080"/>
            <a:chOff x="1676520" y="1515960"/>
            <a:chExt cx="5286240" cy="2638080"/>
          </a:xfrm>
        </p:grpSpPr>
        <p:sp>
          <p:nvSpPr>
            <p:cNvPr id="45" name=""/>
            <p:cNvSpPr/>
            <p:nvPr/>
          </p:nvSpPr>
          <p:spPr>
            <a:xfrm>
              <a:off x="1676520" y="2230560"/>
              <a:ext cx="25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455720" y="1515960"/>
              <a:ext cx="2507040" cy="652680"/>
              <a:chOff x="4455720" y="1515960"/>
              <a:chExt cx="2507040" cy="652680"/>
            </a:xfrm>
          </p:grpSpPr>
          <p:sp>
            <p:nvSpPr>
              <p:cNvPr id="47" name=""/>
              <p:cNvSpPr/>
              <p:nvPr/>
            </p:nvSpPr>
            <p:spPr>
              <a:xfrm>
                <a:off x="4464000" y="1769760"/>
                <a:ext cx="249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ER + Particip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55720" y="1515960"/>
                <a:ext cx="114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Presente 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4472640" y="2538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1560" y="283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1920" y="31478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67240" y="3444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b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3000" y="37576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71560" y="2230560"/>
            <a:ext cx="2161800" cy="1308240"/>
            <a:chOff x="4471560" y="2230560"/>
            <a:chExt cx="2161800" cy="1308240"/>
          </a:xfrm>
        </p:grpSpPr>
        <p:sp>
          <p:nvSpPr>
            <p:cNvPr id="55" name=""/>
            <p:cNvSpPr/>
            <p:nvPr/>
          </p:nvSpPr>
          <p:spPr>
            <a:xfrm>
              <a:off x="4471560" y="223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9040" y="25225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1120" y="2827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m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5800" y="31399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viv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5927760"/>
            <a:ext cx="34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 encanta Benedetti.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e le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odos sus libr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3680" y="5049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oy me he levanta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muy temp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3600" y="5438880"/>
            <a:ext cx="64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do lo que interesa es si una acción se ha realizado o 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interesa tanto el momento en que se ha realizado 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lguna ve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arias vec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06760" y="105084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ART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429000"/>
            <a:ext cx="5875200" cy="2743200"/>
            <a:chOff x="304920" y="3429000"/>
            <a:chExt cx="5875200" cy="2743200"/>
          </a:xfrm>
        </p:grpSpPr>
        <p:sp>
          <p:nvSpPr>
            <p:cNvPr id="64" name=""/>
            <p:cNvSpPr/>
            <p:nvPr/>
          </p:nvSpPr>
          <p:spPr>
            <a:xfrm>
              <a:off x="304920" y="3429000"/>
              <a:ext cx="58672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800" y="3552840"/>
              <a:ext cx="5791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samos el Participio en el Pretérito Perfecto y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 el Pretérito Perfecto, el Participio es invariable; sin embarg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el Participio concuerda en género y en númer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sujeto, y en número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76560" y="4726080"/>
            <a:ext cx="247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Pretérito Perfec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 carta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 lib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s poes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os artí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431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articipios irregul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920" y="1676520"/>
            <a:ext cx="2666880" cy="1523880"/>
            <a:chOff x="304920" y="1676520"/>
            <a:chExt cx="2666880" cy="1523880"/>
          </a:xfrm>
        </p:grpSpPr>
        <p:sp>
          <p:nvSpPr>
            <p:cNvPr id="69" name=""/>
            <p:cNvSpPr/>
            <p:nvPr/>
          </p:nvSpPr>
          <p:spPr>
            <a:xfrm>
              <a:off x="304920" y="1676520"/>
              <a:ext cx="266688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40" y="176040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920" y="21812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hab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920" y="23940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rab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6146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ud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560" y="28195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8840" y="176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920" y="2185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840" y="2394000"/>
            <a:ext cx="9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raba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840" y="26146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udi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6200" y="28195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41720" y="17524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65400" y="2178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en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5040" y="2394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64680" y="2606760"/>
            <a:ext cx="6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iv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5760" y="28195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4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913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92480" y="515304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art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5720" y="536256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libr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96440" y="55785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 poesí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96080" y="5783400"/>
            <a:ext cx="29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 artícu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040" y="4724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20494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1240" y="2049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2575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cri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1880" y="2475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a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1520" y="268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2960" y="226224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scr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1520" y="24750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2960" y="26827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h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1160" y="2903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di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1880" y="29034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de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1520" y="3108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po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1160" y="31082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1160" y="3336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3336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ue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2240" y="35370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rom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1160" y="35337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r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1520" y="37418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u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0440" y="374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cu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39625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mo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0800" y="39625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m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89880" y="2185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3840" y="2394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9520" y="26067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viv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528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676520"/>
            <a:ext cx="2590560" cy="1523880"/>
            <a:chOff x="3048120" y="1676520"/>
            <a:chExt cx="2590560" cy="1523880"/>
          </a:xfrm>
        </p:grpSpPr>
        <p:sp>
          <p:nvSpPr>
            <p:cNvPr id="117" name=""/>
            <p:cNvSpPr/>
            <p:nvPr/>
          </p:nvSpPr>
          <p:spPr>
            <a:xfrm>
              <a:off x="3048120" y="1676520"/>
              <a:ext cx="2590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90600" y="176040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/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ut thruBlk="true"/>
    <p:sndAc>
      <p:stSnd>
        <p:snd r:embed="rId4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7120" y="121932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AR LAS HABILIDADES DE ALG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4200" y="1905120"/>
            <a:ext cx="474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 toca la guitar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is jueg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stante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te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jueg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ajedr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lip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abla inglé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masiado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a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0226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(no) 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8760" y="5394240"/>
            <a:ext cx="7634520" cy="398880"/>
            <a:chOff x="608760" y="5394240"/>
            <a:chExt cx="7634520" cy="398880"/>
          </a:xfrm>
        </p:grpSpPr>
        <p:sp>
          <p:nvSpPr>
            <p:cNvPr id="123" name=""/>
            <p:cNvSpPr/>
            <p:nvPr/>
          </p:nvSpPr>
          <p:spPr>
            <a:xfrm>
              <a:off x="608760" y="5394240"/>
              <a:ext cx="76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edo nadar / tocar la guitarra / conducir.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Juego la guitar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85800" y="5442120"/>
              <a:ext cx="761760" cy="304560"/>
              <a:chOff x="685800" y="5442120"/>
              <a:chExt cx="761760" cy="3045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172200" y="5454720"/>
              <a:ext cx="685440" cy="304560"/>
              <a:chOff x="6172200" y="5454720"/>
              <a:chExt cx="685440" cy="30456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792240" y="3773520"/>
            <a:ext cx="228600" cy="917640"/>
            <a:chOff x="3792240" y="3773520"/>
            <a:chExt cx="228600" cy="917640"/>
          </a:xfrm>
        </p:grpSpPr>
        <p:sp>
          <p:nvSpPr>
            <p:cNvPr id="131" name=""/>
            <p:cNvSpPr/>
            <p:nvPr/>
          </p:nvSpPr>
          <p:spPr>
            <a:xfrm>
              <a:off x="3906720" y="3773520"/>
              <a:ext cx="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06720" y="3773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906720" y="4691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792240" y="42368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27320" y="373392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uc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c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1:44:18Z</dcterms:created>
  <dc:creator>Tonnelier Bibiana Marta</dc:creator>
  <dc:description/>
  <dc:language>en-US</dc:language>
  <cp:lastModifiedBy>Difusión</cp:lastModifiedBy>
  <cp:lastPrinted>2007-06-19T14:06:16Z</cp:lastPrinted>
  <dcterms:modified xsi:type="dcterms:W3CDTF">2007-06-20T13:25:16Z</dcterms:modified>
  <cp:revision>81</cp:revision>
  <dc:subject/>
  <dc:title>Χωρίς τίτλο διαφάνειας</dc:title>
</cp:coreProperties>
</file>